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67F-913D-44E2-909A-25BEF11F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89C8-499F-4795-9C49-6480FB5C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5AB6-9FCB-4A77-ADF9-F8A9AACB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C72-7E58-4775-B2E7-6781B83F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C406-8681-4056-933B-F55C206C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D7D9-ABFC-44F8-8D58-246A7CED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22F1-DB74-4F94-8A88-93E57A31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12C5-F6E1-406C-9588-70A1D989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52D7-E7D6-4B4D-B279-22094B95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3D0E-76DC-4C91-B867-1BA31A49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CC27-779D-4E4A-AFDB-959F9AF8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5AE-056E-4014-AF11-9FE7D551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147C-B32D-46F7-B33B-27DCA3AB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5F5E-7A21-4949-83A1-8B8CF2AF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69A6-C618-4A94-BD34-E0C869F4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24F1-42E4-4271-B702-432B65FB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6BCC-2E36-4B87-8661-735A2718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83C2-EF79-448A-8801-969B8C50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149-10AC-45B2-A85A-FB4C63DC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FD8-CBAB-498C-9F16-81884218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E3C8-899C-4146-BF13-A5CA781C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F20-9CFD-4769-A1E1-469B97DF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5E9-0494-4E76-89EB-5CA28123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9599-A38B-4FED-A086-B10C08AE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5916-6475-4BF9-A64E-2AFBC9122B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D916-8D2E-4D66-8FF5-B0BB49DF778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2000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Earwig Factory"/>
              </a:rPr>
              <a:t>Sophomore Class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09680" y="58669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pee"/>
              </a:rPr>
              <a:t>Purpose of Advisory Perio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04920" y="-533520"/>
            <a:ext cx="408636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Sophomore Focus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MS Pre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AP: Career Portfol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76920" y="2590920"/>
            <a:ext cx="3968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AIMS Prep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st Pr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IMS reading, writing and math skill buil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st taking strateg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ctice 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y Ski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05320" y="3429000"/>
            <a:ext cx="3381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Sophomore Focu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ECAP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eer Pr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umé wri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er Explo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er 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ege Pr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ege Searc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SAT information/pract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31064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960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21:15:10Z</dcterms:created>
  <dc:creator>Tech</dc:creator>
  <dc:description/>
  <dc:language>en-US</dc:language>
  <cp:lastModifiedBy>Leif Erickson</cp:lastModifiedBy>
  <dcterms:modified xsi:type="dcterms:W3CDTF">2011-08-07T14:46:25Z</dcterms:modified>
  <cp:revision>11</cp:revision>
  <dc:subject/>
  <dc:title>Sophomore Class </dc:title>
</cp:coreProperties>
</file>